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7B9C-1FE6-44BF-91EB-10CA7A7E735E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18D5-9CBF-4E0C-B161-7F19BE2E15FE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667C-76BC-4D42-ADFD-F56095546EFA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15C1-319F-4EC5-8FEC-BC88B9B4C89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102-8BD9-4994-AA45-B09A4332AC85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5B4-0C4A-4229-B061-FFBAF10F3F32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2E4D-9066-469F-98EA-1FB4B2F8B7FB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4" name="Заметки 4"/>
          <p:cNvSpPr/>
          <p:nvPr/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3700-E126-4F18-B9D7-A473A6EF75C0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30200" y="461808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E0F1-A576-4EB1-A2F1-A8939F5BB64F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6946-6DFD-4D24-A8A2-93F7E3E2973B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DDD65-1D52-4A47-A429-83D2BC6AFD25}" type="slidenum">
              <a:rPr b="0" lang="ru-R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8E11-885A-4A47-B7B3-AD1D0671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FACC-4A3A-4B02-BE49-7DA42211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1CC-B6EB-4B5F-A24B-2212E911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7F4-27CB-4571-AB88-E99C9474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D7E-B755-4689-960D-01374AC9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7CF4-F745-4221-8AAA-7EC70846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FE1B-12E6-4B9F-80C3-5E65E045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27E5-A03A-4C94-9900-76ED3E28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1AC1-190E-4EFB-B28B-0A8133F0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1E2C-B03E-4D54-98A8-6F688499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FFAD-82E9-449F-98A8-18DC7841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7D69-915E-4498-8CD2-C6F34E0A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3F9E-2BD5-41BF-9920-BF3EE783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4E7A-F4A5-4F59-9572-53193CA3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0C95-B5B4-40E3-B33E-858464E4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6116-C78D-42AD-9905-47F24A68E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B92F-A710-409C-936A-ECF3EC49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14A-9182-41CA-BF8D-2DBA78AD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67C-C571-40F0-B87A-C9E1DDBB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298B-2FF7-4559-8E03-ABC14FA5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6F5-3339-4164-9046-F5F756B9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E29-2BA0-4F0B-8B75-C3FA87ED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8EC-8184-4DEA-9364-D03A2724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B53-805F-4C37-82B0-90EB7B4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AB71-397E-4E4E-91A7-E183E3C3078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0D10-37FC-4348-8BD5-258EFF797B8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hyperlink" Target="https://ru.wikipedia.org/wiki/8_&#1084;&#1072;&#1103;" TargetMode="External"/><Relationship Id="rId4" Type="http://schemas.openxmlformats.org/officeDocument/2006/relationships/hyperlink" Target="https://ru.wikipedia.org/wiki/1967_&#1075;&#1086;&#1076;" TargetMode="External"/><Relationship Id="rId5" Type="http://schemas.openxmlformats.org/officeDocument/2006/relationships/hyperlink" Target="https://ru.wikipedia.org/wiki/&#1052;&#1086;&#1075;&#1080;&#1083;&#1072;_&#1053;&#1077;&#1080;&#1079;&#1074;&#1077;&#1089;&#1090;&#1085;&#1086;&#1075;&#1086;_&#1057;&#1086;&#1083;&#1076;&#1072;&#1090;&#1072;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7850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День Неизвестного Солдата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Picture 7" descr="mogila-Neizvestnogo-soldata"/>
          <p:cNvPicPr/>
          <p:nvPr/>
        </p:nvPicPr>
        <p:blipFill>
          <a:blip r:embed="rId1"/>
          <a:stretch/>
        </p:blipFill>
        <p:spPr>
          <a:xfrm>
            <a:off x="179280" y="278136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" descr="ph000125m12"/>
          <p:cNvPicPr/>
          <p:nvPr/>
        </p:nvPicPr>
        <p:blipFill>
          <a:blip r:embed="rId1"/>
          <a:stretch/>
        </p:blipFill>
        <p:spPr>
          <a:xfrm>
            <a:off x="3786120" y="4238640"/>
            <a:ext cx="3490920" cy="26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20128813644176"/>
          <p:cNvPicPr/>
          <p:nvPr/>
        </p:nvPicPr>
        <p:blipFill>
          <a:blip r:embed="rId2"/>
          <a:stretch/>
        </p:blipFill>
        <p:spPr>
          <a:xfrm>
            <a:off x="0" y="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742080"/>
            <a:ext cx="822960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17" descr="05082012_7"/>
          <p:cNvPicPr/>
          <p:nvPr/>
        </p:nvPicPr>
        <p:blipFill>
          <a:blip r:embed="rId3"/>
          <a:stretch/>
        </p:blipFill>
        <p:spPr>
          <a:xfrm>
            <a:off x="0" y="2714760"/>
            <a:ext cx="374328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&amp;Pcy;&amp;acy;&amp;rcy;&amp;acy; &amp;mcy;&amp;ocy;&amp;lcy;&amp;ocy;&amp;dcy;&amp;ocy;&amp;zhcy;&amp;iecy;&amp;ncy;&amp;ocy;&amp;vcy; &amp;ucy; &amp;vcy;&amp;iecy;&amp;chcy;&amp;ncy;&amp;ocy;&amp;gcy;&amp;ocy; &amp;ocy;&amp;gcy;&amp;ncy;&amp;yacy; &amp;vcy; &amp;Acy;&amp;lcy;&amp;iecy;&amp;kcy;&amp;scy;&amp;acy;&amp;ncy;&amp;dcy;&amp;rcy;&amp;ocy;&amp;vcy;&amp;scy;&amp;kcy;&amp;ocy;&amp;mcy; &amp;scy;&amp;acy;&amp;dcy;&amp;ucy;. &amp;Mcy;&amp;ocy;&amp;scy;&amp;kcy;&amp;vcy;&amp;acy;; &amp;fcy;&amp;ocy;&amp;tcy;&amp;ocy; 1682505, &amp;fcy;&amp;ocy;&amp;tcy;&amp;ocy;&amp;gcy;&amp;rcy;&amp;acy;&amp;fcy; &amp;IEcy;&amp;kcy;&amp;acy;&amp;tcy;&amp;iecy;&amp;rcy;&amp;icy;&amp;ncy;&amp;acy; &amp;Ocy;&amp;vcy;&amp;scy;&amp;yacy;&amp;ncy;&amp;ncy;&amp;icy;&amp;kcy;&amp;ocy;&amp;vcy;&amp;acy;. &amp;Fcy;&amp;ocy;&amp;tcy;&amp;ocy;&amp;bcy;&amp;acy;&amp;ncy;&amp;kcy; &amp;Lcy;&amp;ocy;&amp;rcy;&amp;icy; - &amp;Pcy;&amp;rcy;"/>
          <p:cNvPicPr/>
          <p:nvPr/>
        </p:nvPicPr>
        <p:blipFill>
          <a:blip r:embed="rId4"/>
          <a:srcRect l="5845" t="5102" r="5845" b="13606"/>
          <a:stretch/>
        </p:blipFill>
        <p:spPr>
          <a:xfrm>
            <a:off x="6676920" y="2357280"/>
            <a:ext cx="2467080" cy="234180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8"/>
          <p:cNvSpPr/>
          <p:nvPr/>
        </p:nvSpPr>
        <p:spPr>
          <a:xfrm>
            <a:off x="4000680" y="14292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е много лет прошло с тех пор, а этот памятник продолжает оставаться одним из самых известных во всей стране. Сюда приходят взрослые и дети не только в День Победы. К Вечному огню возлагают цветы молодожены, иностранные делегации и главные лица России, выказывая бесконечное уважение безымянным героя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инута молч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9" descr="&amp;Scy;&amp;ucy;&amp;scy;&amp;acy;&amp;ncy;&amp;icy;&amp;ncy; / &amp;Kcy;&amp;acy;&amp;zcy;&amp;acy;&amp;ncy;&amp;softcy; &amp;ocy;&amp;scy;&amp;tcy;&amp;acy;&amp;ncy;&amp;iecy;&amp;tcy;&amp;scy;&amp;yacy; &amp;bcy;&amp;iecy;&amp;zcy; &amp;Vcy;&amp;iecy;&amp;chcy;&amp;ncy;&amp;ocy;&amp;gcy;&amp;ocy; &amp;ocy;&amp;gcy;&amp;ncy;&amp;yacy; &amp;vcy; &amp;Dcy;&amp;iecy;&amp;ncy;&amp;softcy; &amp;Pcy;&amp;ocy;&amp;bcy;&amp;iecy;&amp;dcy;&amp;ycy;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346720"/>
          </a:xfrm>
          <a:prstGeom prst="rect">
            <a:avLst/>
          </a:prstGeom>
          <a:ln w="0">
            <a:noFill/>
          </a:ln>
        </p:spPr>
      </p:pic>
      <p:pic>
        <p:nvPicPr>
          <p:cNvPr id="132" name="metronom1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543640" cy="508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Я знаю – никакой моей вины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другие не пришли с войны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том, что они – кто старше, кто моложе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лись там. И не о том же речь,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я их мог и не сумел сберечь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чь не о том. Но все же, все же все же…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Т. Твардовский, 1966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2" descr="450px-Berlin_Treptow_Ehrenmal_12"/>
          <p:cNvPicPr/>
          <p:nvPr/>
        </p:nvPicPr>
        <p:blipFill>
          <a:blip r:embed="rId1"/>
          <a:stretch/>
        </p:blipFill>
        <p:spPr>
          <a:xfrm>
            <a:off x="6357960" y="3071880"/>
            <a:ext cx="2536920" cy="3381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v_ogon"/>
          <p:cNvPicPr/>
          <p:nvPr/>
        </p:nvPicPr>
        <p:blipFill>
          <a:blip r:embed="rId2"/>
          <a:stretch/>
        </p:blipFill>
        <p:spPr>
          <a:xfrm>
            <a:off x="1441440" y="4005360"/>
            <a:ext cx="266400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9998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Указ президента Росс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ноября 2014 года президентом Владимиром Путиным подписан указ    о введении в России нового памятного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декабр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нь Неизвестного Солда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285840" y="1429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акон не только увековечивает память, воинскую доблесть и бессмертный подвиг российских и советских воинов, погибших в боевых действиях на территории страны и за её пределами, чьё имя осталось неизвестным. Во многих городах России и за ее пределами есть памятники неизвестному солдату, которые «священны для нашего народа», как говорится в пояснительной записке к закон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емориал Могила Неизвестного Солдата находится в Москве в Александровском саду, у северной стены Кремля. Композиция представляет собой надгробную плиту, на которой покоится бронзовое боевое знамя. На боевом знамени лежат солдатская каска и лавровая ветвь, также изготовленные из бронзы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центре мемориала находится ниша, в середине которой, в бронзовой пятиконечной звезде горит Вечный огонь славы. Рядом с огнем из лабрадорита сделана надпись «Имя твоё неизвестно, подвиг твой бессмертен»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Picture 5" descr="http://content.foto.mail.ru/mail/dmitriykep/_blogs/i-515.jpg"/>
          <p:cNvPicPr/>
          <p:nvPr/>
        </p:nvPicPr>
        <p:blipFill>
          <a:blip r:embed="rId1"/>
          <a:stretch/>
        </p:blipFill>
        <p:spPr>
          <a:xfrm>
            <a:off x="971640" y="1700280"/>
            <a:ext cx="7056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http://www.pomnite-nas.ru/img/61/201006121217260.2.jpg"/>
          <p:cNvPicPr/>
          <p:nvPr/>
        </p:nvPicPr>
        <p:blipFill>
          <a:blip r:embed="rId1"/>
          <a:stretch/>
        </p:blipFill>
        <p:spPr>
          <a:xfrm>
            <a:off x="214200" y="378612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9469569"/>
          <p:cNvPicPr/>
          <p:nvPr/>
        </p:nvPicPr>
        <p:blipFill>
          <a:blip r:embed="rId2"/>
          <a:stretch/>
        </p:blipFill>
        <p:spPr>
          <a:xfrm>
            <a:off x="214200" y="1000080"/>
            <a:ext cx="2495520" cy="1533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&amp;Pcy;&amp;ocy;&amp;chcy;&amp;iecy;&amp;tcy;&amp;ncy;&amp;ocy;&amp;mcy;&amp;ucy; &amp;kcy;&amp;acy;&amp;rcy;&amp;acy;&amp;ucy;&amp;lcy;&amp;ucy; &amp;Rcy;&amp;ocy;&amp;scy;&amp;scy;&amp;icy;&amp;icy; &amp;icy;&amp;scy;&amp;pcy;&amp;ocy;&amp;lcy;&amp;ncy;&amp;icy;&amp;lcy;&amp;ocy;&amp;scy;&amp;softcy; 55 &amp;lcy;&amp;iecy;&amp;tcy;"/>
          <p:cNvPicPr/>
          <p:nvPr/>
        </p:nvPicPr>
        <p:blipFill>
          <a:blip r:embed="rId3"/>
          <a:stretch/>
        </p:blipFill>
        <p:spPr>
          <a:xfrm>
            <a:off x="4214880" y="4071960"/>
            <a:ext cx="4608360" cy="2583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14760" y="-360"/>
            <a:ext cx="628632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стория появления этого памятника в Москве очень интересна. Широко праздновать победу в Великой Отечественной войне стали лишь в 1965 году. Тогда же Москва получила звание города-героя, а день 9-го мая стал общегосударственным праздником. Возникла идея создания памятника солдатам, сражавшимся и погибшим в боях под Москвой. Этот монумент должен быть всенародного значения, и таким памятником мог стать памятник Неизвестному Солдату. В те дни под Москвой, в Зеленограде в ходе строительных работ, была обнаружена братская могила времен войны. Решено было выбрать погибшего именно отсюда. Выбор остановили на воине в хорошо сохранившейся форме без знаков отличия. Документов при бойце не было – прах его был по-настоящему безымянным. 2 декабря 1966 года, в 14 часов 30 минут, останки воина поместили в гроб, увитый оранжево-черной лентой. Молодые солдаты, стоявшие в почетном карауле, сменялись каждые два часа весь вечер, всю ночь и утро следующего дня. 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a5182d19f9f2271dccf78cdf988_prev"/>
          <p:cNvPicPr/>
          <p:nvPr/>
        </p:nvPicPr>
        <p:blipFill>
          <a:blip r:embed="rId1"/>
          <a:stretch/>
        </p:blipFill>
        <p:spPr>
          <a:xfrm>
            <a:off x="4071960" y="214200"/>
            <a:ext cx="4897440" cy="349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f45912ba7d75e8354425904592_prev"/>
          <p:cNvPicPr/>
          <p:nvPr/>
        </p:nvPicPr>
        <p:blipFill>
          <a:blip r:embed="rId2"/>
          <a:stretch/>
        </p:blipFill>
        <p:spPr>
          <a:xfrm>
            <a:off x="285840" y="3857760"/>
            <a:ext cx="4932360" cy="2692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www.netall.ru/gnn/memorials/40/1.jpg"/>
          <p:cNvPicPr/>
          <p:nvPr/>
        </p:nvPicPr>
        <p:blipFill>
          <a:blip r:embed="rId3"/>
          <a:stretch/>
        </p:blipFill>
        <p:spPr>
          <a:xfrm>
            <a:off x="5500800" y="4357800"/>
            <a:ext cx="3097080" cy="19447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357120" y="357120"/>
            <a:ext cx="314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 декабря в 11 часов 45 минут гроб установили на открытую машину, которая двинулась по Ленинградскому шоссе к Москв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3"/>
          <p:cNvPicPr/>
          <p:nvPr/>
        </p:nvPicPr>
        <p:blipFill>
          <a:blip r:embed="rId1"/>
          <a:stretch/>
        </p:blipFill>
        <p:spPr>
          <a:xfrm>
            <a:off x="250920" y="260280"/>
            <a:ext cx="3744720" cy="275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%D0%A4%D0%BE%D1%82%D0%BE20_Vdovenco"/>
          <p:cNvPicPr/>
          <p:nvPr/>
        </p:nvPicPr>
        <p:blipFill>
          <a:blip r:embed="rId2"/>
          <a:stretch/>
        </p:blipFill>
        <p:spPr>
          <a:xfrm>
            <a:off x="3492360" y="2933640"/>
            <a:ext cx="5486400" cy="392436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4286160" y="642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Манежной площади состоялся митинг. Гроб с останками Неизвестного солдата под артиллерийский залп был опущен в могил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0" y="27432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Женщины, не дождавшиеся своих сыновей и  мужей приходили поклониться праху неизвестного солдата.</a:t>
            </a:r>
            <a:br>
              <a:rPr sz="1400"/>
            </a:b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Picture 4" descr="59f5900ddf52d9cc33124f5ff80_prev"/>
          <p:cNvPicPr/>
          <p:nvPr/>
        </p:nvPicPr>
        <p:blipFill>
          <a:blip r:embed="rId1"/>
          <a:stretch/>
        </p:blipFill>
        <p:spPr>
          <a:xfrm>
            <a:off x="179280" y="189000"/>
            <a:ext cx="4611960" cy="3111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&amp;Rcy;&amp;iecy;&amp;tcy;&amp;rcy;&amp;ocy;&amp;Mcy;&amp;Ocy;&amp;Scy;&amp;fcy;&amp;ocy;&amp;tcy;&amp;ocy; - &amp;Mcy;&amp;ocy;&amp;gcy;&amp;icy;&amp;lcy;&amp;acy; &amp;Ncy;&amp;iecy;&amp;icy;&amp;zcy;&amp;vcy;&amp;iecy;&amp;scy;&amp;tcy;&amp;ncy;&amp;ocy;&amp;gcy;&amp;ocy; &amp;Scy;&amp;ocy;&amp;lcy;&amp;dcy;&amp;acy;&amp;tcy;&amp;acy;"/>
          <p:cNvPicPr/>
          <p:nvPr/>
        </p:nvPicPr>
        <p:blipFill>
          <a:blip r:embed="rId2"/>
          <a:stretch/>
        </p:blipFill>
        <p:spPr>
          <a:xfrm>
            <a:off x="5734080" y="2095560"/>
            <a:ext cx="3409920" cy="476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http://mosarchiv.mos.ru/downloads/public/mogila/12.jpg"/>
          <p:cNvPicPr/>
          <p:nvPr/>
        </p:nvPicPr>
        <p:blipFill>
          <a:blip r:embed="rId3"/>
          <a:stretch/>
        </p:blipFill>
        <p:spPr>
          <a:xfrm>
            <a:off x="179280" y="3403440"/>
            <a:ext cx="460872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220px-Changing_Guard_Alexander_Garden_Moscow"/>
          <p:cNvPicPr/>
          <p:nvPr/>
        </p:nvPicPr>
        <p:blipFill>
          <a:blip r:embed="rId1"/>
          <a:stretch/>
        </p:blipFill>
        <p:spPr>
          <a:xfrm>
            <a:off x="7048440" y="260280"/>
            <a:ext cx="2095560" cy="3143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moscow-live.ru/g2/main.php?g2_view=core.DownloadItem&amp;g2_itemId=15156&amp;g2_serialNumber=2"/>
          <p:cNvPicPr/>
          <p:nvPr/>
        </p:nvPicPr>
        <p:blipFill>
          <a:blip r:embed="rId2"/>
          <a:stretch/>
        </p:blipFill>
        <p:spPr>
          <a:xfrm>
            <a:off x="179280" y="2133720"/>
            <a:ext cx="6480360" cy="4329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500040" y="500040"/>
            <a:ext cx="635796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8 м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1967 год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 месте перезахоронения открыт мемориальный архитектурный ансамбль «</a:t>
            </a:r>
            <a:r>
              <a:rPr b="0" lang="ru-RU" sz="18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Могила Неизвестного Солдат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. В том же году правительством было принято решение о ежечасной смене постовых полка № 1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30T12:48:21Z</dcterms:created>
  <dc:creator>Olga</dc:creator>
  <dc:description/>
  <dc:language>en-US</dc:language>
  <cp:lastModifiedBy>MASTER</cp:lastModifiedBy>
  <cp:lastPrinted>2020-12-01T09:31:55Z</cp:lastPrinted>
  <dcterms:modified xsi:type="dcterms:W3CDTF">2020-12-01T09:32:34Z</dcterms:modified>
  <cp:revision>26</cp:revision>
  <dc:subject/>
  <dc:title>3 декабря - День памяти Неизвестного Солдата</dc:title>
</cp:coreProperties>
</file>